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3D4-4F68-4B53-BF87-D7A053C4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BA3-4E85-4AF8-AEC1-D8C18C9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4EA-9F6C-4E8D-A5FD-C856A740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54D-06E5-4BC6-A38F-CFB764E7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2FFE-EBD2-4656-8B21-314640CF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6AF4-5547-4747-9284-18D87BBD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AA15-3421-4CFB-9B29-39B6226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F663-11D3-4C9A-BF57-1244E2A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BE18-FCED-4EE6-B27E-DE5D129E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D3CB-5F74-48DE-847A-D016A00B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9DD-1964-416E-9983-66BC7D2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280-953F-4C51-9976-F748599B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A12B-E62C-4F1E-82C1-8677CB5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D5B2-4A34-4902-857F-90674F8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B3D-8FB3-4128-B0F9-3C5D2A0A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1BDE-6593-4981-8B23-E359E341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085-5FD7-4BEC-B4B2-3F3BA265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254-C2C5-4D3D-9F7B-BDB14516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F9D-E037-4204-80D9-3A9EABE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6FB-1614-49F2-BF52-5CFF2A9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1D4-343B-4FFA-85CF-1AB56B6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36F-8F58-43A1-9A95-CF91389D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00A-1AF2-49F4-92FA-66D7378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F8C-7C55-432F-BAA3-7EEE9C3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4F3-F83C-4B96-9446-ABC9306F1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39E-C151-4EDD-B140-999EC42B03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8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Vincent Willem </a:t>
            </a:r>
            <a:r>
              <a:rPr b="1" lang="tr-TR" sz="4800" spc="-1" strike="noStrike">
                <a:solidFill>
                  <a:srgbClr val="420000"/>
                </a:solidFill>
                <a:latin typeface="Times New Roman"/>
              </a:rPr>
              <a:t>V</a:t>
            </a:r>
            <a:r>
              <a:rPr b="1" lang="en-US" sz="4800" spc="-1" strike="noStrike">
                <a:solidFill>
                  <a:srgbClr val="420000"/>
                </a:solidFill>
                <a:latin typeface="Times New Roman"/>
              </a:rPr>
              <a:t>an Gogh</a:t>
            </a: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2095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i </a:t>
            </a: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ortunati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imo Amore: suo cugino 7 anni piu di l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 ricevuto rifiuto da 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: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la pressione della famig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Figlia del vicin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Margot Begeman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 tentato il suicidio a causa della loro genitori si oppone al loro matrimo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rdina De Gr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responsabile della gravidanza di una raga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Prostituta Sien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lasina Maria Hoornik 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3541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20000"/>
                </a:solidFill>
                <a:latin typeface="Times New Roman"/>
              </a:rPr>
              <a:t>I mangiatori di patate</a:t>
            </a: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tr-TR" sz="3600" spc="-1" strike="noStrike">
                <a:solidFill>
                  <a:srgbClr val="420000"/>
                </a:solidFill>
                <a:latin typeface="Times New Roman"/>
              </a:rPr>
              <a:t>primo famoso quadro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1720" y="5936760"/>
            <a:ext cx="792792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Van Gog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o voluto, lavorando, far capire ch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a povera gente, che alla luce di una lampada mangia patate servendosi dal piatto con le m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185080" cy="3666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75720" y="5589720"/>
            <a:ext cx="7391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Times New Roman"/>
              </a:rPr>
              <a:t>Nuenen ve Anvers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 cui lui utilizzati colori naturali e scuri nei suoi quad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aul Gaugin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che i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igliore amico pit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La Casa Gial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H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vissutto insieme per un po’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266364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295308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88040" y="836640"/>
            <a:ext cx="53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6000" y="3940200"/>
            <a:ext cx="2184480" cy="27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16360" y="1844640"/>
            <a:ext cx="9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Gauguin: Ritratto di Van Go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39680" y="6284880"/>
            <a:ext cx="19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so di giras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Biografia di Van Gog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rammatico conflitto </a:t>
            </a: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rensioni e divergenze di opinione tra le apparve e le sue phsycolog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o aver capito che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a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s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ando l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sciarlo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tagliò metà dell'orecchio sinistro, lo incartò, lo consegnò a Rachele, una prostitut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00"/>
                </a:solidFill>
                <a:latin typeface="Times New Roman"/>
              </a:rPr>
              <a:t>Ospedal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'stato ricoverato in ospedale a causa della perdita di sangue e la depressionement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i di nuovo, di nuovo in ospedale a causa elle allucinazioni e paranoia.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 delle pressioni della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, finalmente pose in un ospedale psichiatric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aint-Rémy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Notte Stella :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 che dipinse in ospedale mental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 subito un sequestro e mangiato il suo vern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Genio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rivista francesa ha detto Genio parlava di 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'esecuzione è vigorosa, esaltata,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tale, inte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3240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uvers-sur-Oise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Dr. Paul Gache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 suo secondo medico in un altro ospedale psichiatrico. Lodipinse tre vol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660000"/>
                </a:solidFill>
                <a:latin typeface="Times New Roman"/>
              </a:rPr>
              <a:t>Pistola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è sparato con una pistola dal suo pet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3573360"/>
            <a:ext cx="2454120" cy="302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87180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18960" y="5950080"/>
            <a:ext cx="45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mpo di grano con volo di cor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lio su te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20000"/>
                </a:solidFill>
                <a:latin typeface="Times New Roman"/>
              </a:rPr>
              <a:t>Misteri della sua malatt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 dott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no diagnosticato per la loro malattia più di 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zofrenia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essione maniacal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filid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ce avvelenamento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ttia di Meniere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o di calo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 usando troppo colore giallo nei suoi dipinti nei suoi ultimi anni. Così hanno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sato che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urbo med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 un motivo per questo o per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ett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lla v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potrebbe essere una delle ragioni perché 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nzio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-absinth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vuto molto e lo faceva vedere appassionato di tu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7:31Z</dcterms:created>
  <dc:creator>melis</dc:creator>
  <dc:description/>
  <dc:language>en-US</dc:language>
  <cp:lastModifiedBy>melis</cp:lastModifiedBy>
  <dcterms:modified xsi:type="dcterms:W3CDTF">2011-11-02T16:15:29Z</dcterms:modified>
  <cp:revision>4</cp:revision>
  <dc:subject/>
  <dc:title>Slayt 1</dc:title>
</cp:coreProperties>
</file>